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63C-7004-4D22-92E3-8B0C8CC5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A81-012A-4755-8C67-BCA41204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1743-DBF4-46F2-8C36-64586EE2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A05-7C98-437E-956A-4C19A548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4540-737F-42FD-A2B7-2F6D6F8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E7C-12FF-4540-95E1-3C44A58F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F655-5643-4A18-9304-C46B86C7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BE18-F4C6-4BCE-AB8A-0503E008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C36-77A0-40B1-BCA2-65B39C6E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E84D-3954-4B60-90C3-DFBC8A95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F464B-96D5-4BC1-AAE2-F78EA0DC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E02-7D1B-4685-A619-BDE4EB94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676A-692C-4971-944E-FE4F1D10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17F1-1DC0-4D67-9CE8-92563A67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9108-5091-4E6B-913F-64C23994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8E70-B2AC-4D52-92BB-89B95DD15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F829-E2C7-463D-B425-A25318BD9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878D-528C-4CE2-A00B-F04E7B0C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F272-FF77-4173-A1A9-7ED6EDD1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88D-0827-4C18-ADB8-A3EA099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F8F-CF0F-4058-B768-CCA008C2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833D-8923-4BED-A11E-2A5BD86E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8EB-30B5-4EB6-AB15-74DA5E8B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8AA6-8AA2-413A-A8BB-4B840EED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54DA-1062-4518-ACDE-F69A38E160EE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14F1-B712-44BC-BF6A-03ED6FA66DE1}" type="slidenum">
              <a:rPr b="0" lang="es-E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y la Ofer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xperimen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recio y Costo de Oportunida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ecio y Costo de Oportunida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a demanda y la oferta explican cómo se determinan los precios y las cantidades de las cosas compradas y vendida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 precio es u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recio relativ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 precio relativo es un costo de oportunida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 siguiente gráfico muestra la diferencia entre un precio relativo y un precio en diner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245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ecio y Costo de Oportunidad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1371600"/>
          <a:ext cx="71629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71629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cantidad demandada</a:t>
            </a:r>
            <a:r>
              <a:rPr b="1" lang="en-US" sz="3200" spc="-1" strike="noStrike">
                <a:solidFill>
                  <a:srgbClr val="0303f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s la cantidad de un bien o servicio que los consumidores planean en un período dado de tiempo y dadas ciertas condicione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Necesidades</a:t>
            </a:r>
            <a:r>
              <a:rPr b="1" lang="en-US" sz="3200" spc="-1" strike="noStrike">
                <a:solidFill>
                  <a:srgbClr val="0303f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n los deseos ilimitados que la gente tiene por bienes y servici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1752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determina los planes de compr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l bi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 los bienes relacion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expectativas sobre los precios futu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464040"/>
            <a:ext cx="8077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determina los planes de compr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 precio del bie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precio de los bienes relacionad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expectativas sobre los precios futur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l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Ley de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ientras mayor el precio de un bien menor la cantidad demandada, manteniendo constantes otros determinantes de la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z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 efecto sustitució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l efecto ingres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La Demanda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la cantidad demandada de un bien o servicio a cada nivel de preci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a Demands se presenta com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a Tabl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na curv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Tabl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ci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   Cantidad Deman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$/video)           (millones de videos/sem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1                             9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2                             6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3                             4        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4                             3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5                             2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Curv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981080" y="1676520"/>
          <a:ext cx="5562720" cy="47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676520"/>
                    <a:ext cx="556272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s definiciones de la curva de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tidad comprada a un precio dad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recio máximo que estamos dispuestos a pagar por la última unidad comprada de una cantidad 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Curva de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Tengo tres gaseosas hela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un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ds.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desean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  una gaseosa, pero desear no es lo mismo que demand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¿Qué provoca cambios en la demanda?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El precio de otros bie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Substitu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mplemento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2.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ngr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enes Normal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Bienes Inferior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Pobl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4.</a:t>
            </a: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Las prefer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3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n cambio en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Precio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Cantidad Demanda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$/video)           (millones videos/sem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(VHS: $200)  (VHS:$50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1                    9              13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2                    6              10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3                    4                8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4                    3                7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    5                    2                6            </a:t>
            </a:r>
            <a:r>
              <a:rPr b="1" i="1" lang="en-US" sz="2800" spc="-1" strike="noStrike">
                <a:solidFill>
                  <a:srgbClr val="ffffcc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'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17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n cambio en la Demand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05120" y="1371600"/>
          <a:ext cx="5410080" cy="49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371600"/>
                    <a:ext cx="5410080" cy="49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8680" y="2093400"/>
            <a:ext cx="820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uando el precio de un bien cambia, tenemos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cambio en la cantidad demanda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que se observa como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movimiento a lo largo de la curva de demand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uando se produce un cambio en cualquier otra variable que determina nuestros planes de compra, tenemos un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cambio en la demanda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que se observa como un  </a:t>
            </a: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desplazamiento de la curva de demanda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6840" y="52488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mbios en la cantidad demandada vs. cambios en la deman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219960"/>
            <a:ext cx="84582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ambios en la cantidad demandada vs. cambios en la demanda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600200" y="1523880"/>
          <a:ext cx="5943600" cy="48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594360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14400" y="23623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Uds. Tienen algo de dinero para comprar una gaseosa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Uds. Tienen la  </a:t>
            </a:r>
            <a:r>
              <a:rPr b="1" i="1" lang="en-US" sz="3200" spc="-1" strike="noStrike">
                <a:solidFill>
                  <a:srgbClr val="fc0128"/>
                </a:solidFill>
                <a:latin typeface="Arial"/>
              </a:rPr>
              <a:t>capacidad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</a:rPr>
              <a:t> para comprar una gaseosa, pero tampoco esta es demand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990720" y="2514240"/>
            <a:ext cx="6324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hora voy a vender estas tres gaseosa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sta es una transacción real y vamos a descubrir la demanda por gaseosas en este salon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75 centavo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1 nuevo sol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1.5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2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2.5 nuevos soles?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3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ién quiere comprar una gaseosa por 3.5 nuevos sole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Acabamos de descubrir su curva de demanda por gaseos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Podemos ver esta curva de demanda en una hoja de cálculo mediante una tabla y un gráfico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upongamos que un mal funcionamiento de los equipos de aire acondicionado en este salon provoque que la temperatura se eleve en 10 grados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Cuál será el efecto sobre la demanda de gaseosa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1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Supongamos que los semaforos dejaron de funcionar y que cerca de aquí hay un embotellamiento del tránsi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¿Qué efecto probablemente tendrá esto sobre la curva de demanda de gaseosas?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317160" y="720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a Demanda : Un Experiment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13T14:51:38Z</dcterms:created>
  <dc:creator>Michael Parkin</dc:creator>
  <dc:description/>
  <dc:language>en-US</dc:language>
  <cp:lastModifiedBy>GUILLERMO PEREYRA</cp:lastModifiedBy>
  <dcterms:modified xsi:type="dcterms:W3CDTF">2001-03-10T20:20:26Z</dcterms:modified>
  <cp:revision>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michael.parkin@uwo.ca</vt:lpwstr>
  </property>
  <property fmtid="{D5CDD505-2E9C-101B-9397-08002B2CF9AE}" pid="11" name="NavBtnPos">
    <vt:r8>1</vt:r8>
  </property>
  <property fmtid="{D5CDD505-2E9C-101B-9397-08002B2CF9AE}" pid="12" name="Other">
    <vt:lpwstr>These notes are from Michael Parkin's lectures at the University of Western Ontario, Fall 1998.</vt:lpwstr>
  </property>
  <property fmtid="{D5CDD505-2E9C-101B-9397-08002B2CF9AE}" pid="13" name="OutputDir">
    <vt:lpwstr>C:\My Canadian Documents\UWO\Ec20\Lectures\HTML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